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E5FB-8007-4E09-9459-A4B70554353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3E1-8BAB-4B6B-9ADD-6EB23E0A2A1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931-5FFE-4C79-BD09-230D16C7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978-5D2F-459C-814E-1F9B44A0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2A2-898C-431C-BA24-79B42A7D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29A-0FAC-4224-B5E0-0855B61E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B1C-72C5-4FD2-BCC5-85607E8A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830-78D2-410A-9085-AEB818BB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DE1-7D33-4624-9292-320A8638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008-5D8A-425E-9603-5B114CB3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9AB-C4B8-4872-9A3A-6F201064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E26-BF82-4B69-B7F7-ABEF7C25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826-2CA6-4582-96AC-8FDB524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137-2CB5-4888-AD65-B9AFFE7A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7A1C-16AC-4BFC-9C02-F62759DE57F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-146160" y="324000"/>
            <a:ext cx="9422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Ti raccont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la croc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4"/>
          <p:cNvSpPr/>
          <p:nvPr/>
        </p:nvSpPr>
        <p:spPr>
          <a:xfrm>
            <a:off x="-58680" y="5084640"/>
            <a:ext cx="92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LTSalamanderDbl Medium"/>
              </a:rPr>
              <a:t>Lo sguardo degli uomini verso Ges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magine 3" descr="Annunciazione1.jpg"/>
          <p:cNvPicPr/>
          <p:nvPr/>
        </p:nvPicPr>
        <p:blipFill>
          <a:blip r:embed="rId1"/>
          <a:stretch/>
        </p:blipFill>
        <p:spPr>
          <a:xfrm>
            <a:off x="-39600" y="-531720"/>
            <a:ext cx="929160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tangolo 3"/>
          <p:cNvSpPr/>
          <p:nvPr/>
        </p:nvSpPr>
        <p:spPr>
          <a:xfrm>
            <a:off x="539640" y="40464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LTSalamanderDbl Medium"/>
              </a:rPr>
              <a:t>Gesto di carit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LTSalamanderDbl Medium"/>
              </a:rPr>
              <a:t>Penso a chi è meno fortunato di m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tangolo 4"/>
          <p:cNvSpPr/>
          <p:nvPr/>
        </p:nvSpPr>
        <p:spPr>
          <a:xfrm>
            <a:off x="4067280" y="2492280"/>
            <a:ext cx="4749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DON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D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RIS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ttp://www.diabetebrescia.org/diabetebrescia.it/images/riso(1).jpg"/>
          <p:cNvPicPr/>
          <p:nvPr/>
        </p:nvPicPr>
        <p:blipFill>
          <a:blip r:embed="rId1"/>
          <a:stretch/>
        </p:blipFill>
        <p:spPr>
          <a:xfrm>
            <a:off x="442800" y="306864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Lc 19 - Oggi la salvezza è entrata in questa casa2.jpg"/>
          <p:cNvPicPr/>
          <p:nvPr/>
        </p:nvPicPr>
        <p:blipFill>
          <a:blip r:embed="rId1"/>
          <a:stretch/>
        </p:blipFill>
        <p:spPr>
          <a:xfrm>
            <a:off x="0" y="-44280"/>
            <a:ext cx="4800600" cy="69022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4859280" y="274680"/>
            <a:ext cx="4105440" cy="88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Signore Ges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i sappiamo che il Tuo sguar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è sempre sguardo di amor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che i tuoi occ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n giudicano e non condann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ma ci vogliono aiut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a riconoscere ciò che non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ella nostra vita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Con tutti hai saputo ricer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il “buono” che c’era nel loro cu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Anche con Zaccheo hai fatto così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hai preferito fare il primo pas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e puntare sul suo deside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di felicità e di gio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a è la logica della CRO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o è il modo che anche n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vogliamo imparare a viv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questo siamo qu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imparare dalla tua CROC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1447920" y="692280"/>
            <a:ext cx="630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Prim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RINNEGA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DA PIETR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11" descr="Mt 26 - Il rinnegamento di Pietro1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195640" y="47520"/>
            <a:ext cx="4786200" cy="6810480"/>
          </a:xfrm>
          <a:prstGeom prst="rect">
            <a:avLst/>
          </a:prstGeom>
          <a:ln w="0">
            <a:noFill/>
          </a:ln>
        </p:spPr>
      </p:pic>
      <p:cxnSp>
        <p:nvCxnSpPr>
          <p:cNvPr id="54" name="Connettore 2 4"/>
          <p:cNvCxnSpPr/>
          <p:nvPr/>
        </p:nvCxnSpPr>
        <p:spPr>
          <a:xfrm flipV="1">
            <a:off x="1907640" y="3499920"/>
            <a:ext cx="1296360" cy="1224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" name="CasellaDiTesto 6"/>
          <p:cNvSpPr/>
          <p:nvPr/>
        </p:nvSpPr>
        <p:spPr>
          <a:xfrm>
            <a:off x="186120" y="4365720"/>
            <a:ext cx="1678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donne che 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anno scald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 fuoco pun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dito su Pi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o riconosc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dicono la verit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u di Lu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un discep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Ges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9"/>
          <p:cNvSpPr/>
          <p:nvPr/>
        </p:nvSpPr>
        <p:spPr>
          <a:xfrm>
            <a:off x="7049880" y="5157720"/>
            <a:ext cx="2024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ietro con le m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espinge ciò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donne dicono, 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 gli occhi guar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. Ques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guardo lo ha salv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ttore 2 10"/>
          <p:cNvCxnSpPr/>
          <p:nvPr/>
        </p:nvCxnSpPr>
        <p:spPr>
          <a:xfrm flipH="1" flipV="1">
            <a:off x="5939640" y="1412280"/>
            <a:ext cx="1585080" cy="1369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" name="CasellaDiTesto 12"/>
          <p:cNvSpPr/>
          <p:nvPr/>
        </p:nvSpPr>
        <p:spPr>
          <a:xfrm>
            <a:off x="7450200" y="2771640"/>
            <a:ext cx="1587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in mez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due soldat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uarda Piet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lo giudic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lo disprez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contin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guardar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me un am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ttore 2 13"/>
          <p:cNvCxnSpPr/>
          <p:nvPr/>
        </p:nvCxnSpPr>
        <p:spPr>
          <a:xfrm flipV="1">
            <a:off x="1834920" y="1340640"/>
            <a:ext cx="937080" cy="359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0" name="CasellaDiTesto 15"/>
          <p:cNvSpPr/>
          <p:nvPr/>
        </p:nvSpPr>
        <p:spPr>
          <a:xfrm>
            <a:off x="141840" y="237960"/>
            <a:ext cx="2180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gallo ro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embra domin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scena, ci ricorda 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ima o poi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rriva il tempo in c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chiam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testimoniare Ges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dire agli al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ono suo discepo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ristiano 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nnunciare che Gesù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entro della sua 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27"/>
          <p:cNvCxnSpPr/>
          <p:nvPr/>
        </p:nvCxnSpPr>
        <p:spPr>
          <a:xfrm flipH="1" flipV="1">
            <a:off x="6011640" y="548640"/>
            <a:ext cx="1152720" cy="143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2" name="CasellaDiTesto 29"/>
          <p:cNvSpPr/>
          <p:nvPr/>
        </p:nvSpPr>
        <p:spPr>
          <a:xfrm>
            <a:off x="7093080" y="115920"/>
            <a:ext cx="187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ullo sfondo si v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rusale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mmersa nel bu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, se not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a sorgen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na luce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more di Ges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uce che illum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Connettore 2 7"/>
          <p:cNvCxnSpPr/>
          <p:nvPr/>
        </p:nvCxnSpPr>
        <p:spPr>
          <a:xfrm flipH="1" flipV="1">
            <a:off x="6659280" y="3788640"/>
            <a:ext cx="792720" cy="1369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sellaDiTesto 1"/>
          <p:cNvSpPr/>
          <p:nvPr/>
        </p:nvSpPr>
        <p:spPr>
          <a:xfrm>
            <a:off x="245160" y="476280"/>
            <a:ext cx="87076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Second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500" spc="-1" strike="noStrike">
                <a:solidFill>
                  <a:srgbClr val="ffffff"/>
                </a:solidFill>
                <a:latin typeface="LTSalamanderDbl Medium"/>
              </a:rPr>
              <a:t>IL PROCESSO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500" spc="-1" strike="noStrike">
                <a:solidFill>
                  <a:srgbClr val="ffffff"/>
                </a:solidFill>
                <a:latin typeface="LTSalamanderDbl Medium"/>
              </a:rPr>
              <a:t>A GESÚ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magine 12" descr="Mt 27 - Il processo di Gesù1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095560" y="0"/>
            <a:ext cx="49528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66" name="Connettore 2 5"/>
          <p:cNvCxnSpPr/>
          <p:nvPr/>
        </p:nvCxnSpPr>
        <p:spPr>
          <a:xfrm flipV="1">
            <a:off x="1258920" y="4581000"/>
            <a:ext cx="1008720" cy="216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" name="CasellaDiTesto 6"/>
          <p:cNvSpPr/>
          <p:nvPr/>
        </p:nvSpPr>
        <p:spPr>
          <a:xfrm>
            <a:off x="108000" y="3933720"/>
            <a:ext cx="1871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vo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un dott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Leg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fa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ringe in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 rotoli della Bibb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suo sgu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uno sguardo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danna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uole togli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mezzo Ges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7"/>
          <p:cNvCxnSpPr/>
          <p:nvPr/>
        </p:nvCxnSpPr>
        <p:spPr>
          <a:xfrm>
            <a:off x="1619280" y="907920"/>
            <a:ext cx="1513440" cy="434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" name="CasellaDiTesto 10"/>
          <p:cNvSpPr/>
          <p:nvPr/>
        </p:nvSpPr>
        <p:spPr>
          <a:xfrm>
            <a:off x="108000" y="85680"/>
            <a:ext cx="1942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quadro è imme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ter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buio… tu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 a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so il suo col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ando las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il male riem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tuo cuo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ora cammi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bu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non sai davvero dove stai andand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ttore 2 11"/>
          <p:cNvCxnSpPr/>
          <p:nvPr/>
        </p:nvCxnSpPr>
        <p:spPr>
          <a:xfrm flipH="1">
            <a:off x="6948000" y="2997360"/>
            <a:ext cx="1007280" cy="288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" name="CasellaDiTesto 13"/>
          <p:cNvSpPr/>
          <p:nvPr/>
        </p:nvSpPr>
        <p:spPr>
          <a:xfrm>
            <a:off x="7093080" y="2492280"/>
            <a:ext cx="198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po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’è Pil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i l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ma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 capito che Gesù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Verità ma ha p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non fa nu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 salvar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ttore 2 14"/>
          <p:cNvCxnSpPr/>
          <p:nvPr/>
        </p:nvCxnSpPr>
        <p:spPr>
          <a:xfrm flipH="1" flipV="1">
            <a:off x="4931640" y="5083920"/>
            <a:ext cx="2809080" cy="505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3" name="CasellaDiTesto 19"/>
          <p:cNvSpPr/>
          <p:nvPr/>
        </p:nvSpPr>
        <p:spPr>
          <a:xfrm>
            <a:off x="7308720" y="5202360"/>
            <a:ext cx="15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cco i seg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della fero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cui è s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rattato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23"/>
          <p:cNvCxnSpPr/>
          <p:nvPr/>
        </p:nvCxnSpPr>
        <p:spPr>
          <a:xfrm flipH="1">
            <a:off x="5148000" y="979920"/>
            <a:ext cx="1800720" cy="1296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5" name="CasellaDiTesto 25"/>
          <p:cNvSpPr/>
          <p:nvPr/>
        </p:nvSpPr>
        <p:spPr>
          <a:xfrm>
            <a:off x="7093080" y="103320"/>
            <a:ext cx="1942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olore della v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Gesù è il RO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colore 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chiama il cuo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more, la pass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attrav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utto il m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uomi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mandol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sellaDiTesto 1"/>
          <p:cNvSpPr/>
          <p:nvPr/>
        </p:nvSpPr>
        <p:spPr>
          <a:xfrm>
            <a:off x="440280" y="531720"/>
            <a:ext cx="83142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Terz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GES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CARICA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DELLA CRO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magine 10" descr="Gv 19 - Gesù e la croce3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8" name="Connettore 2 2"/>
          <p:cNvCxnSpPr/>
          <p:nvPr/>
        </p:nvCxnSpPr>
        <p:spPr>
          <a:xfrm flipV="1">
            <a:off x="1834920" y="691920"/>
            <a:ext cx="937080" cy="144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" name="CasellaDiTesto 5"/>
          <p:cNvSpPr/>
          <p:nvPr/>
        </p:nvSpPr>
        <p:spPr>
          <a:xfrm>
            <a:off x="79920" y="189000"/>
            <a:ext cx="2151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pra il pa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orizzontale della c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rappresen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male degli uomi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ì c’è anche il no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le, il nostro pecc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li errori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mmettiamo e da c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vogli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endere le distanz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Connettore 2 6"/>
          <p:cNvCxnSpPr/>
          <p:nvPr/>
        </p:nvCxnSpPr>
        <p:spPr>
          <a:xfrm flipH="1" flipV="1">
            <a:off x="6874920" y="3428280"/>
            <a:ext cx="649800" cy="57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CasellaDiTesto 8"/>
          <p:cNvSpPr/>
          <p:nvPr/>
        </p:nvSpPr>
        <p:spPr>
          <a:xfrm>
            <a:off x="7175160" y="3933720"/>
            <a:ext cx="1924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mano di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ende la cro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g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’accet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 parte di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 questo è il m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il qu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vo dimost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vi am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ora lo acc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non lo resping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ttore 2 9"/>
          <p:cNvCxnSpPr/>
          <p:nvPr/>
        </p:nvCxnSpPr>
        <p:spPr>
          <a:xfrm flipH="1">
            <a:off x="5219280" y="1916280"/>
            <a:ext cx="1945440" cy="721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" name="CasellaDiTesto 12"/>
          <p:cNvSpPr/>
          <p:nvPr/>
        </p:nvSpPr>
        <p:spPr>
          <a:xfrm>
            <a:off x="7001280" y="112680"/>
            <a:ext cx="2113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cco il l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rappres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cro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palo orizzo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viene fatto por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Gesù fino al Calv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 sue dimens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sproporzion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 male può diven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olto pesant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Connettore 2 19"/>
          <p:cNvCxnSpPr/>
          <p:nvPr/>
        </p:nvCxnSpPr>
        <p:spPr>
          <a:xfrm flipV="1">
            <a:off x="1618920" y="3572640"/>
            <a:ext cx="2521800" cy="1080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" name="CasellaDiTesto 21"/>
          <p:cNvSpPr/>
          <p:nvPr/>
        </p:nvSpPr>
        <p:spPr>
          <a:xfrm>
            <a:off x="113760" y="3933720"/>
            <a:ext cx="20840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testa di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schiacciata dal p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cro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 quasi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legno voglia stac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testa di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 appoggia a terr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non scapp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imane e soppor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ffronta tut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 amore nostr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sellaDiTesto 3"/>
          <p:cNvSpPr/>
          <p:nvPr/>
        </p:nvSpPr>
        <p:spPr>
          <a:xfrm>
            <a:off x="-150840" y="40464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ndara"/>
              </a:rPr>
              <a:t>Oggi, Signore abbiamo capito qualcosa di più del tuo a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1979640" y="1144440"/>
            <a:ext cx="266364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nche quando sbagliamo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quando scegliamo il mal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a non smett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guardare il tuo amo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domandarti perdon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a confida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empre nel tuo perdono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7"/>
          <p:cNvSpPr/>
          <p:nvPr/>
        </p:nvSpPr>
        <p:spPr>
          <a:xfrm>
            <a:off x="6588000" y="1197000"/>
            <a:ext cx="25560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Guardaci semp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n amore, Signo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ssun errore o sbagl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i può allontanare da T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olo quando pens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poterci salvare da sol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enza Te siamo perduti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9"/>
          <p:cNvSpPr/>
          <p:nvPr/>
        </p:nvSpPr>
        <p:spPr>
          <a:xfrm>
            <a:off x="6588000" y="3763800"/>
            <a:ext cx="23767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non abb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mai paura della verità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non scappiamo m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fronte alle nost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responsabilità, perch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solo quando sapp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ffrontarle e viver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oi diventia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grandi davvero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12"/>
          <p:cNvSpPr/>
          <p:nvPr/>
        </p:nvSpPr>
        <p:spPr>
          <a:xfrm>
            <a:off x="9720" y="5589720"/>
            <a:ext cx="563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Anche noi, come tanti mendican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ci appoggiamo alla tua cr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per ricevere tanta speranza e tanto a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magine 13" descr="Particolare Pietro1.jpg"/>
          <p:cNvPicPr/>
          <p:nvPr/>
        </p:nvPicPr>
        <p:blipFill>
          <a:blip r:embed="rId1"/>
          <a:stretch/>
        </p:blipFill>
        <p:spPr>
          <a:xfrm>
            <a:off x="395280" y="981000"/>
            <a:ext cx="1512720" cy="2239920"/>
          </a:xfrm>
          <a:prstGeom prst="rect">
            <a:avLst/>
          </a:prstGeom>
          <a:ln w="0">
            <a:noFill/>
          </a:ln>
        </p:spPr>
      </p:pic>
      <p:pic>
        <p:nvPicPr>
          <p:cNvPr id="92" name="Immagine 14" descr="Particolare Pietro.jpg"/>
          <p:cNvPicPr/>
          <p:nvPr/>
        </p:nvPicPr>
        <p:blipFill>
          <a:blip r:embed="rId2"/>
          <a:stretch/>
        </p:blipFill>
        <p:spPr>
          <a:xfrm>
            <a:off x="4716360" y="1125360"/>
            <a:ext cx="173376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Immagine 15" descr="Pilato lava le mani.jpg"/>
          <p:cNvPicPr/>
          <p:nvPr/>
        </p:nvPicPr>
        <p:blipFill>
          <a:blip r:embed="rId3"/>
          <a:stretch/>
        </p:blipFill>
        <p:spPr>
          <a:xfrm>
            <a:off x="4767120" y="3860640"/>
            <a:ext cx="1749600" cy="2232360"/>
          </a:xfrm>
          <a:prstGeom prst="rect">
            <a:avLst/>
          </a:prstGeom>
          <a:ln w="0">
            <a:noFill/>
          </a:ln>
        </p:spPr>
      </p:pic>
      <p:pic>
        <p:nvPicPr>
          <p:cNvPr id="94" name="Immagine 16" descr="Gesù prende la proce.jpg"/>
          <p:cNvPicPr/>
          <p:nvPr/>
        </p:nvPicPr>
        <p:blipFill>
          <a:blip r:embed="rId4"/>
          <a:stretch/>
        </p:blipFill>
        <p:spPr>
          <a:xfrm>
            <a:off x="324000" y="3860640"/>
            <a:ext cx="3568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20:36:32Z</dcterms:created>
  <dc:creator> </dc:creator>
  <dc:description/>
  <dc:language>en-US</dc:language>
  <cp:lastModifiedBy>Qumran2</cp:lastModifiedBy>
  <dcterms:modified xsi:type="dcterms:W3CDTF">2011-04-11T14:41:48Z</dcterms:modified>
  <cp:revision>42</cp:revision>
  <dc:subject/>
  <dc:title>Diapositiva 1</dc:title>
</cp:coreProperties>
</file>